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F4D-AD26-42D3-BFE0-06E77E28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4D5-1CC6-4386-838B-24A2D232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9C9-6DCD-489D-92B3-2330CAE0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439-A82F-4395-A752-CD453262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0C0-48B5-4CED-9975-B4BB88A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C04-49B0-4E37-B942-B3611CA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219-3C9E-4053-A335-BA564CE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3FF-9AC1-4BBF-BDD8-43EF673E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19B-4A71-4890-AEF2-431E1A22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2C1-5FDF-40B4-81CD-1778522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F67-0AF4-4B2D-9250-2F5CD37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024-9629-49A3-B965-608F613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AB65-8DFE-429B-801B-9C2039A6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00" y="1143000"/>
            <a:ext cx="91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THE PROBLEM WITH LANDMINES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86"/>
          <p:cNvPicPr/>
          <p:nvPr/>
        </p:nvPicPr>
        <p:blipFill>
          <a:blip r:embed="rId1"/>
          <a:stretch/>
        </p:blipFill>
        <p:spPr>
          <a:xfrm>
            <a:off x="1371600" y="2133720"/>
            <a:ext cx="6343560" cy="4152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6629400" y="6095880"/>
            <a:ext cx="11145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Tim Grant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751120" y="6094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Impact"/>
              </a:rPr>
              <a:t>SOLU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269280" y="157644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Clear landmines and teach people about the da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IMGP0265"/>
          <p:cNvPicPr/>
          <p:nvPr/>
        </p:nvPicPr>
        <p:blipFill>
          <a:blip r:embed="rId1"/>
          <a:stretch/>
        </p:blipFill>
        <p:spPr>
          <a:xfrm>
            <a:off x="152280" y="40384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33360" y="631836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Stockpile De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Wednesday1"/>
          <p:cNvPicPr/>
          <p:nvPr/>
        </p:nvPicPr>
        <p:blipFill>
          <a:blip r:embed="rId2"/>
          <a:stretch/>
        </p:blipFill>
        <p:spPr>
          <a:xfrm>
            <a:off x="3352680" y="2590920"/>
            <a:ext cx="2387880" cy="3174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3639960" y="601992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Mine Cl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341960" y="5562720"/>
            <a:ext cx="139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an Sutton, Reuter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af-e-00262_z"/>
          <p:cNvPicPr/>
          <p:nvPr/>
        </p:nvPicPr>
        <p:blipFill>
          <a:blip r:embed="rId3"/>
          <a:stretch/>
        </p:blipFill>
        <p:spPr>
          <a:xfrm>
            <a:off x="5943600" y="25146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6981840" y="480060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©ICRC/V. Ivleva-Yorke/ao-e-00249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337440" y="51814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Mine Risk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753200" y="6095880"/>
            <a:ext cx="145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aëtan 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aupu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51120" y="6094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Impact"/>
              </a:rPr>
              <a:t>SOLU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-405360" y="1752480"/>
            <a:ext cx="85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Provide for the needs and rights of survivors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2743200" y="3200400"/>
            <a:ext cx="2971800" cy="2057400"/>
            <a:chOff x="2743200" y="3200400"/>
            <a:chExt cx="2971800" cy="2057400"/>
          </a:xfrm>
        </p:grpSpPr>
        <p:pic>
          <p:nvPicPr>
            <p:cNvPr id="81" name="Picture 5" descr="P1010065"/>
            <p:cNvPicPr/>
            <p:nvPr/>
          </p:nvPicPr>
          <p:blipFill>
            <a:blip r:embed="rId1"/>
            <a:stretch/>
          </p:blipFill>
          <p:spPr>
            <a:xfrm>
              <a:off x="2743200" y="3200400"/>
              <a:ext cx="2971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6"/>
            <p:cNvSpPr/>
            <p:nvPr/>
          </p:nvSpPr>
          <p:spPr>
            <a:xfrm>
              <a:off x="4205160" y="4942080"/>
              <a:ext cx="1474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7"/>
          <p:cNvSpPr/>
          <p:nvPr/>
        </p:nvSpPr>
        <p:spPr>
          <a:xfrm>
            <a:off x="3355560" y="5181480"/>
            <a:ext cx="251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titute For Rehabilitation, Slovenia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TMP6"/>
          <p:cNvPicPr/>
          <p:nvPr/>
        </p:nvPicPr>
        <p:blipFill>
          <a:blip r:embed="rId2"/>
          <a:stretch/>
        </p:blipFill>
        <p:spPr>
          <a:xfrm>
            <a:off x="380880" y="2286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105120" y="54100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mergency as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616120" y="571500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New limbs and rehabil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sotwriting"/>
          <p:cNvPicPr/>
          <p:nvPr/>
        </p:nvPicPr>
        <p:blipFill>
          <a:blip r:embed="rId3"/>
          <a:stretch/>
        </p:blipFill>
        <p:spPr>
          <a:xfrm>
            <a:off x="6095880" y="38862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6521040" y="6172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Social re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774920" y="594504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 Amaya Valcár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89400" y="5105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ICBL-Georgian Committ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903760" y="6094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Impact"/>
              </a:rPr>
              <a:t>SOLU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1720" y="4038480"/>
            <a:ext cx="780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andmines must be found and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landmines survivors must be fully car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countries must never use or produce landm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352680" y="2819520"/>
            <a:ext cx="25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463120" y="184644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Impact"/>
              </a:rPr>
              <a:t>The Ottawa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95280" y="2514600"/>
            <a:ext cx="63788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156 countries have joined the Ottawa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(80% of the worl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SC_0200"/>
          <p:cNvPicPr/>
          <p:nvPr/>
        </p:nvPicPr>
        <p:blipFill>
          <a:blip r:embed="rId1"/>
          <a:stretch/>
        </p:blipFill>
        <p:spPr>
          <a:xfrm>
            <a:off x="5029200" y="3124080"/>
            <a:ext cx="3000240" cy="238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SC_0073"/>
          <p:cNvPicPr/>
          <p:nvPr/>
        </p:nvPicPr>
        <p:blipFill>
          <a:blip r:embed="rId2"/>
          <a:stretch/>
        </p:blipFill>
        <p:spPr>
          <a:xfrm>
            <a:off x="2971800" y="3200400"/>
            <a:ext cx="2525760" cy="167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elhi 066"/>
          <p:cNvPicPr/>
          <p:nvPr/>
        </p:nvPicPr>
        <p:blipFill>
          <a:blip r:embed="rId3"/>
          <a:stretch/>
        </p:blipFill>
        <p:spPr>
          <a:xfrm>
            <a:off x="4800600" y="11430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UT_0161"/>
          <p:cNvPicPr/>
          <p:nvPr/>
        </p:nvPicPr>
        <p:blipFill>
          <a:blip r:embed="rId4"/>
          <a:stretch/>
        </p:blipFill>
        <p:spPr>
          <a:xfrm>
            <a:off x="2362320" y="129528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 (117)"/>
          <p:cNvPicPr/>
          <p:nvPr/>
        </p:nvPicPr>
        <p:blipFill>
          <a:blip r:embed="rId5"/>
          <a:stretch/>
        </p:blipFill>
        <p:spPr>
          <a:xfrm>
            <a:off x="5867280" y="2286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 (71)"/>
          <p:cNvPicPr/>
          <p:nvPr/>
        </p:nvPicPr>
        <p:blipFill>
          <a:blip r:embed="rId6"/>
          <a:stretch/>
        </p:blipFill>
        <p:spPr>
          <a:xfrm>
            <a:off x="228600" y="152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rt Show display &amp; Paul"/>
          <p:cNvPicPr/>
          <p:nvPr/>
        </p:nvPicPr>
        <p:blipFill>
          <a:blip r:embed="rId7"/>
          <a:stretch/>
        </p:blipFill>
        <p:spPr>
          <a:xfrm>
            <a:off x="838080" y="34290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Delhi 039"/>
          <p:cNvPicPr/>
          <p:nvPr/>
        </p:nvPicPr>
        <p:blipFill>
          <a:blip r:embed="rId8"/>
          <a:stretch/>
        </p:blipFill>
        <p:spPr>
          <a:xfrm>
            <a:off x="6705720" y="25909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Delhi 062"/>
          <p:cNvPicPr/>
          <p:nvPr/>
        </p:nvPicPr>
        <p:blipFill>
          <a:blip r:embed="rId9"/>
          <a:stretch/>
        </p:blipFill>
        <p:spPr>
          <a:xfrm>
            <a:off x="228600" y="23623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Delhi 115"/>
          <p:cNvPicPr/>
          <p:nvPr/>
        </p:nvPicPr>
        <p:blipFill>
          <a:blip r:embed="rId10"/>
          <a:stretch/>
        </p:blipFill>
        <p:spPr>
          <a:xfrm>
            <a:off x="228600" y="44956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Tajikistan camp 1"/>
          <p:cNvPicPr/>
          <p:nvPr/>
        </p:nvPicPr>
        <p:blipFill>
          <a:blip r:embed="rId11"/>
          <a:stretch/>
        </p:blipFill>
        <p:spPr>
          <a:xfrm>
            <a:off x="6324480" y="48769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005"/>
          <p:cNvPicPr/>
          <p:nvPr/>
        </p:nvPicPr>
        <p:blipFill>
          <a:blip r:embed="rId12"/>
          <a:stretch/>
        </p:blipFill>
        <p:spPr>
          <a:xfrm>
            <a:off x="3276720" y="380880"/>
            <a:ext cx="2255760" cy="140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DSC_0114"/>
          <p:cNvPicPr/>
          <p:nvPr/>
        </p:nvPicPr>
        <p:blipFill>
          <a:blip r:embed="rId13"/>
          <a:stretch/>
        </p:blipFill>
        <p:spPr>
          <a:xfrm>
            <a:off x="3276720" y="4724280"/>
            <a:ext cx="2895480" cy="192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DSCF0167"/>
          <p:cNvPicPr/>
          <p:nvPr/>
        </p:nvPicPr>
        <p:blipFill>
          <a:blip r:embed="rId14"/>
          <a:stretch/>
        </p:blipFill>
        <p:spPr>
          <a:xfrm>
            <a:off x="2590920" y="30481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IMGP4784"/>
          <p:cNvPicPr/>
          <p:nvPr/>
        </p:nvPicPr>
        <p:blipFill>
          <a:blip r:embed="rId15"/>
          <a:stretch/>
        </p:blipFill>
        <p:spPr>
          <a:xfrm>
            <a:off x="4800600" y="243828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7"/>
          <p:cNvSpPr/>
          <p:nvPr/>
        </p:nvSpPr>
        <p:spPr>
          <a:xfrm>
            <a:off x="683640" y="2367000"/>
            <a:ext cx="792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come part of the global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f activist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ampaigners to make a mine-free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real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nd not just a dream!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Picture 039"/>
          <p:cNvPicPr/>
          <p:nvPr/>
        </p:nvPicPr>
        <p:blipFill>
          <a:blip r:embed="rId1"/>
          <a:stretch/>
        </p:blipFill>
        <p:spPr>
          <a:xfrm>
            <a:off x="2514600" y="609480"/>
            <a:ext cx="3481560" cy="5229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1989000" y="51814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o your part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mine-free worl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 rot="5400000">
            <a:off x="5849280" y="70488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I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91720" y="3016080"/>
            <a:ext cx="76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Impact"/>
              </a:rPr>
              <a:t>IS THE HUMAN IMPACT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4680" y="4419720"/>
            <a:ext cx="978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15000 – 20000 NEW LANDMINE VICTIMS PER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MOST OF THE WORLD’S POORES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028640" y="661356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urtesy of the ICBL Image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38"/>
          <p:cNvPicPr/>
          <p:nvPr/>
        </p:nvPicPr>
        <p:blipFill>
          <a:blip r:embed="rId1"/>
          <a:stretch/>
        </p:blipFill>
        <p:spPr>
          <a:xfrm>
            <a:off x="1447920" y="1066680"/>
            <a:ext cx="6350040" cy="4178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868040" y="571500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Impact"/>
              </a:rPr>
              <a:t>Almost 500 000 known survivors in 2009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936840" y="5181480"/>
            <a:ext cx="83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Tim Gr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-42120" y="609480"/>
            <a:ext cx="94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Impact"/>
              </a:rPr>
              <a:t>Thousands of km</a:t>
            </a:r>
            <a:r>
              <a:rPr b="0" lang="en-US" sz="2800" spc="-1" strike="noStrike" baseline="30000">
                <a:solidFill>
                  <a:srgbClr val="ffcc00"/>
                </a:solidFill>
                <a:latin typeface="Impact"/>
              </a:rPr>
              <a:t>2 </a:t>
            </a:r>
            <a:r>
              <a:rPr b="0" lang="en-US" sz="2800" spc="-1" strike="noStrike">
                <a:solidFill>
                  <a:srgbClr val="ffcc00"/>
                </a:solidFill>
                <a:latin typeface="Impact"/>
              </a:rPr>
              <a:t>are invested with these hidden ki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6A_BOSNIA10YRS04"/>
          <p:cNvPicPr/>
          <p:nvPr/>
        </p:nvPicPr>
        <p:blipFill>
          <a:blip r:embed="rId1"/>
          <a:stretch/>
        </p:blipFill>
        <p:spPr>
          <a:xfrm>
            <a:off x="2362320" y="1295280"/>
            <a:ext cx="430056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334120" y="6477120"/>
            <a:ext cx="140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 John Rodsted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-41400" y="930240"/>
            <a:ext cx="930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There are over 350 types of landm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found in approximately 80 countries and terr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since World War 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-68400" y="223920"/>
            <a:ext cx="9280800" cy="64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15160" y="326880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Afghan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Bos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Cambo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24000" y="3352680"/>
            <a:ext cx="205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Kos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Leb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Mozamb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881440" y="563868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plus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49200" y="286056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M MAP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-675720" y="304920"/>
            <a:ext cx="10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Impact"/>
              </a:rPr>
              <a:t>Cluster bombs have been used in over 20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" y="1143000"/>
            <a:ext cx="8724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raq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just three week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13, 000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cluster bombs  were used contain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1.8-2 million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bomblets by the U.K. and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-486000" y="5943600"/>
            <a:ext cx="9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he most contaminated areas are:  Afghanistan, Cambodia, Iraq, Laos, Kosovo and Vie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kosal_stair"/>
          <p:cNvPicPr/>
          <p:nvPr/>
        </p:nvPicPr>
        <p:blipFill>
          <a:blip r:embed="rId1"/>
          <a:stretch/>
        </p:blipFill>
        <p:spPr>
          <a:xfrm>
            <a:off x="2895480" y="1143000"/>
            <a:ext cx="3411720" cy="4495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5" name="Text Box 4"/>
          <p:cNvSpPr/>
          <p:nvPr/>
        </p:nvSpPr>
        <p:spPr>
          <a:xfrm>
            <a:off x="4115520" y="541008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the ICBL Image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749520" y="1273320"/>
            <a:ext cx="108608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Toy-size bombs designed to kill tanks and soldiers appear a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lawn darts, green baseballs,orange-striped soda cans- and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proved deadly to children…’When you see a 5-year-old boy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to the hospital without any limbs,’ asked Kuwait City surge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Dr. Mohammed Khaled,’ how can you forget that sight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Ft. Worth Star Telegram” January 12, 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Mennonite Central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7:44:42Z</dcterms:created>
  <dc:creator>user</dc:creator>
  <dc:description/>
  <dc:language>en-US</dc:language>
  <cp:lastModifiedBy>SEKULA, Debbie(SEK)</cp:lastModifiedBy>
  <dcterms:modified xsi:type="dcterms:W3CDTF">2013-07-29T03:02:52Z</dcterms:modified>
  <cp:revision>20</cp:revision>
  <dc:subject/>
  <dc:title>PowerPoint Presentation</dc:title>
</cp:coreProperties>
</file>